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726-9A17-4600-B161-2C35AF14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8CB-6157-4F63-915C-AF84BF93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C7D-B945-434E-A33C-9D540A0F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D35-811F-4BA6-B331-C4EF88AD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6FEA-D773-4150-A900-9DEEE3D3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FB30-8BC3-4068-B59D-B64D409D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1A38-713A-4E08-AA00-93731397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7A2D-BE40-41AE-B4CF-BA23DDF5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34C1-297C-4217-A82B-86EFFD8E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BF2A-534B-4559-9383-128FD130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5FF2-3497-430D-B783-AB0A6FBC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664-8A6C-451B-906B-0129F839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D0EC-99E2-4D5B-852A-9796D4E7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32C7-52DB-4AB1-BA29-3104D720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DFA3-9FE4-4543-9024-3D83B5AA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E7DF-D875-49E9-83B3-3DC01842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3D69-223F-431C-AD06-5322C82B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A824-C0A1-45D2-A5BA-60C73198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50F-F520-4CC2-9B75-E772E433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CCB-C84C-47CC-8099-2654EA08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55A-484C-4AA5-BBF0-3821A07A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877-5748-4D62-9B34-52D62946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A06-8E9F-4E80-AAB1-A7D845E5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E96-A81F-4F44-B3AE-100C743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8AF9-C979-4C7D-86E5-B68401C0C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9ACF-EDE6-4280-A598-F5A19A23E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«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Здоровье-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это бесценный дар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природы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»</a:t>
            </a:r>
            <a:br>
              <a:rPr sz="48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. П. Павл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1:58:34Z</dcterms:created>
  <dc:creator> </dc:creator>
  <dc:description/>
  <dc:language>en-US</dc:language>
  <cp:lastModifiedBy> </cp:lastModifiedBy>
  <dcterms:modified xsi:type="dcterms:W3CDTF">2008-04-12T07:30:09Z</dcterms:modified>
  <cp:revision>2</cp:revision>
  <dc:subject/>
  <dc:title>«Здоровье- это бесценный дар природы…»                                И. П. Павлов</dc:title>
</cp:coreProperties>
</file>